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CD6-512F-493F-AD5D-57FAAC9B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476-55C9-4BFF-BF77-73EDFBA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4D4-B26C-4D34-8CB1-4EC4DA79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35F-8B3B-4CF2-A5BD-4A5AF3D2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9A0-A80E-453C-A834-461C7733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F0D-B2BA-4574-9E9A-04412FB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F27-A99D-4CDD-9542-95549016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480-FC5A-4BC6-87A6-2C06670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8A6-BA19-4AF3-A873-6F56F78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8D91-CCCD-486D-9EBF-B78E1B9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9C53-238E-427A-85AB-8B78281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886-8E4C-4E76-BBF7-3486BDA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D22-D4CF-4861-A6E6-F40821E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46A-819B-4FF2-92EA-66980E0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9A02-CF50-4DB3-B1C5-B87912FD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6D6-6609-421E-9BBC-187B860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C72-B75B-4D51-B55C-B0CC9D00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CAE-B132-4A9E-B6BC-1F0CF2C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B29-26FF-4B84-B3F5-28CCB95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908-7101-4A95-B201-23BACF7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CF4-89FE-498B-A1AB-7F49A77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ADB-F2C9-4387-BBD2-B0EAD42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D14-5ADF-4269-857C-F9C135B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2C4-B1BA-4E32-A3F3-24C1356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E57-DB5A-4D69-9855-632E6CEC1A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FAF3-D756-4BD7-802F-D56BC460B6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e.uh.edu/digitalstorytelling/almostparadise.htm" TargetMode="External"/><Relationship Id="rId3" Type="http://schemas.openxmlformats.org/officeDocument/2006/relationships/hyperlink" Target="http://www.coe.uh.edu/digitalstorytelling/computer-I.htm" TargetMode="External"/><Relationship Id="rId4" Type="http://schemas.openxmlformats.org/officeDocument/2006/relationships/hyperlink" Target="http://www.coe.uh.edu/digitalstorytelling/rita.htm" TargetMode="External"/><Relationship Id="rId5" Type="http://schemas.openxmlformats.org/officeDocument/2006/relationships/hyperlink" Target="http://www.coe.uh.edu/digitalstorytelling/comingtohouston.htm" TargetMode="External"/><Relationship Id="rId6" Type="http://schemas.openxmlformats.org/officeDocument/2006/relationships/hyperlink" Target="http://www.coe.uh.edu/digitalstorytelling/mymama.htm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ace.org/conf/SITE/planner/index.cfm?CFID=13815230&amp;CFTOKEN=3693840&amp;fuseaction=Planner.PaperDetails&amp;presentation_id=29986&amp;confID=3021&amp;search_variables=fuseaction%3DPlanner%252EViewSessions%26search%5Fstring%3Dhofer%26search%5Ffield%3DAuthor%26search%5Fscope%3DAuthor%26confID%3D3021%26startrow%3D1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e.uh.edu/digitalstorytelling/stories/gettysburg-with-intro-final.wmv" TargetMode="External"/><Relationship Id="rId3" Type="http://schemas.openxmlformats.org/officeDocument/2006/relationships/hyperlink" Target="http://www.coe.uh.edu/digitalstorytelling/civilization.htm" TargetMode="External"/><Relationship Id="rId4" Type="http://schemas.openxmlformats.org/officeDocument/2006/relationships/hyperlink" Target="http://www.coe.uh.edu/digitalstorytelling/holocaust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Educational Us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511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ard Robi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ge of Educa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Hous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682920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 Effective Tool for Teach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 Created by Teachers Can Ser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Lesson H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Way to Integrate Multimedia into the Curriculum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Way to Make Difficult Content More Understand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Classroom Disc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5619600"/>
            <a:ext cx="678204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 Effective Learning T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Student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tion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ation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iew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95280" y="5610240"/>
            <a:ext cx="69249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udent Literac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19320" y="5619600"/>
            <a:ext cx="702936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llenges to Students Creating Digital Stori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Formulating a Sound Arg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nterest in the Storyt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echnology Hardware and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bility to Save from the 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and Intellectual Property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5610240"/>
            <a:ext cx="68961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arch on the Impa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s who ARE Using 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you using Digital Storytelling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you creating digital stories to show to your student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you teaching your students to create their own digital storie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udents are using Digital Storytelling, what are the outcomes? Have you demonstrated Digital Storytelling to others? If so, to other teachers? Who else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you feel that Digital Storytelling has changed your teaching practice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1600" y="5600880"/>
            <a:ext cx="6629400" cy="79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arch on the Impa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s who ARE NOT Using 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you not using Digital Storytelling? What are the obstacl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questions about how to use Digital Storytelling in your instr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experiencing technical problems? If so, what problems are you hav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interested in additional Digital Storytelling training sess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other issues that are preventing you from using Digital Storytelling in your instr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planning to use Digital Storytelling in the futu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1600" y="5600880"/>
            <a:ext cx="6629400" cy="79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re Research on 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en Barrett's Research Desig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digital stories provide evidence of deep lear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can digital stories be used to support assessment for lear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do students take ownership of their digital sto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enefits of developing digital stories as perceived by students, teachers, administrators, and/or par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perceived obstacles to implementing digital storytelling with P-12 students and how can they be overco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e quality of paper-based reflection differ from digital sto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19320" y="5610240"/>
            <a:ext cx="695304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versity of Houston’s Educational Us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Storytelling Websit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36320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coe.uh.edu/digitalstorytelling http://www.coe.uh.edu/digitalstorytel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682920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s Digital Storytelling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he art of telling stories with some mixture of digital graphics, text, recorded audio narration, video and music to present information on a specific topi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ve around a theme and often contain a particular viewpoint; stories are typically just a few minutes lo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683892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Narr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scribed by the C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 Sto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xplore how we love, who we are inspired by, and the importance of finding meaning in our relationship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ial Sto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deal with memories of people who are no longer with us. These stories are often difficult but are emotionally powerful and can help with the grieving proces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Events in Our Liv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venture Sto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revolve around places we visit and adventures we have in our travel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omplishment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deal with achieving goals and understanding defining moments in our li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Places in Our Liv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xamine the important places in our lives: our homes, our towns, and our experiences that connect us to our communiti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What We D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allow us to talk about our jobs, professions and careers in terms of how we value and find meaning in the work we d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ersonal Stori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covery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deal with how we overcome great obstacles and challenges in our live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ve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rovide us with an opportunity to share some of the most meaningful parts of our lives with the people we most cherish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scovery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let us reflect on what we have learned and illustrate our journeys of discove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ols We Us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 Story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ee from Microsoft)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microsoft.com/windowsxp/using/digitalphotography/photostory/default.msp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s Windows XP &amp; Windows Media Player 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icrosoft.com/windowsxp/using/digitalphotography/photostory/sysreqs.m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 Can Be Converted with Premiere Elements for Playback on Apple Computers or Older Versions of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ersonal Narr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Paradise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e.uh.edu/digitalstorytelling/almostparadise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er and I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oe.uh.edu/digitalstorytelling/computer-I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eing Hurricane Rita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coe.uh.edu/digitalstorytelling/rita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to Houston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coe.uh.edu/digitalstorytelling/comingtohouston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Mama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coe.uh.edu/digitalstorytelling/mymama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ation of Historical Themes and Ev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Material Students Explo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s Research and Organizational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s to Go Beyond the Digitized “MTV Video” or the “Encyclopedia Entry”*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igital Storytelling: Moving from Promise to Pract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 Hofer, College of William &amp; Mary, USA; Kathleen Owings Swan, University of Kentucky, 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4:00pm Wednesday, Universal 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istorical Digital Stor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ttysburg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e.uh.edu/digitalstorytelling/stories/gettysburg-with-intro-final.w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to the Mo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oe.uh.edu/digitalstorytelling/civilization.h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loca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coe.uh.edu/digitalstorytelling/holocaust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ma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hiroshima.htm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3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ies that Inform or I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rgued that All Digital Stories Inform (or Instruc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Distinction is that Digital Stories Can Be Created that Deliver Instructional Content on Many Different Topics, Including: Math, Science, Language Arts, Medicine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3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Stories that Inform or Instruct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y: Art &amp; Architecture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van Hiele Levels of Geometric Understanding to Improve Student Achieve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geo-story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hole Camer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e.uh.edu/digitalstorytelling/pinhole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Well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agingwell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4:55:16Z</dcterms:created>
  <dc:creator>Bernard Robin</dc:creator>
  <dc:description/>
  <cp:keywords/>
  <dc:language>en-US</dc:language>
  <cp:lastModifiedBy>Bernard Robin</cp:lastModifiedBy>
  <dcterms:modified xsi:type="dcterms:W3CDTF">2006-10-24T19:03:50Z</dcterms:modified>
  <cp:revision>39</cp:revision>
  <dc:subject/>
  <dc:title>The Educational Uses of  Digital Storytel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